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94F-78FA-47B8-9AFF-E0BB3829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132-B5F0-4FCB-B410-CB2F6E97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4E07B-4B0A-4F58-B088-E94308C9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838F8-B396-459C-93D0-B05D1EDF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14C10-3929-4EF6-8924-F262E016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1AE1B-3B17-42DD-9773-2A0B82B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CAD3E-1847-4101-A1A5-EE4C94A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264B9-2B96-448B-8474-019D0D8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C6721-FAC5-4EA6-9B6D-08A5E20A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47A17-1457-4E65-B65D-CF39136F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F472E-513E-4B97-B7E5-21B81CFD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1EB-1D45-42C9-A150-248918EF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C7C-9E12-459F-B389-00B73E54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BABED-BA2F-40A2-836B-290B1377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C24A1-C825-4920-8415-99126BF2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22BDD-BDF6-45B4-B586-0231D17A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0D607-9E40-411A-AFC8-CE3AA33F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0A518-2D41-4110-ABFE-50281E05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A0EE-3CF3-4872-B587-3630F1D5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7614B-E01C-4DEE-BFA0-B335749B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A31-CA47-4212-B7B2-C5E83A01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CC96A-D7E9-4507-A1CE-B4AE0995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E7517-9588-40EC-8CE0-E50A42D5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65C07-FC13-40A4-8ACE-016B0902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416F9-3DF5-4878-AF68-69174A40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35BBF-3D3F-488A-AB3B-96FA3EC2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AFE1-7CD1-4442-A32F-BDA3872C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DFF3-C13A-4C3D-A7A8-5D7D103F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F065-17BA-447C-BB5B-93DD01B9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FACB9-48BF-4BE5-98D7-432D335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5B565-1EC9-41A3-9E2D-BB545069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359-11BC-4E7E-90EC-9B6A63A8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B010-5B16-4CB5-AC8C-A98B1065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6293-4B46-495B-A123-711ECAF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86751-4CA8-4573-8DB0-72905126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FF44-4B37-450C-84DC-5D82EBC4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3155-FADD-4427-AAB8-358E8875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6F6CD-D00F-4545-A902-FB478142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BC22-8C8B-4E1D-8ABE-024A5379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88B6C-3683-4EB8-92FC-A45DCEB6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DB81C-777D-4570-BEE9-990BD17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632B2-9CC1-4C83-A5FC-4B43A62D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40A-E779-4ED6-B3E6-7EC247C0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0CED0-8BB9-41A1-841E-33A38C10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27D47-6526-4542-A4B4-3D16F16F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8CDB4-4C4E-4686-826E-0146F8DD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C6A1F-04BB-469A-AC17-407E388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C103D-CAAC-4197-A71F-163CE43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97D10A-7F52-4340-9121-0BF7313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4CA4A-8E03-445A-BD20-3D89AF13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F60AB2-E9E2-4FDA-A5B1-9C85E964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87FDE-51C4-4751-B69B-9FE6A4CB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B54E0-5987-4DB1-BC26-01DE2FA9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AB83-899B-4101-86DF-EF7881C0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618AF-1B25-4B6A-A0E7-20689633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66509-AC9D-48C5-BBE5-CBA07601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654D-5542-41EB-933E-761FD0E1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9EEE7-213F-452B-8E43-34272F10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11798-5ECC-4064-BFE6-62D8F9D3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0D03B-28A6-4AFD-BE75-E5AAD290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1FDBB-CD7B-41FA-88E9-FF9E086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0580-DE81-4146-A661-88A7632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A5A98-235A-43C8-A66A-21A815BB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5FFA2-8400-48AF-9788-9EEF0588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313-3777-46FD-BE4B-19936255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E2B52-7C9E-47F1-BFC4-D36044CC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05411A-FDD1-4794-9DF9-8BA4DC34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1B4C05-3994-44B8-9AD0-5BF40521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C3DA5-3F99-4381-A4D9-7C2CB4A2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E2709-A66B-46F0-AD80-E9B02AE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E0BF2-54B7-481F-A6D6-1CC79518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5683D-42CD-4694-93E2-09EA183B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BBB38-0968-4377-BEBF-D64B7833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8C56E-A12C-4278-A2C4-E6CACA20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A9EA8-6294-4B21-AC42-6DD65E68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14C-BCE6-4AB9-929E-3ED581A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89707-0CFE-4766-B55D-A95C389E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64C30F-8792-4A20-9FD9-75A73360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378E9-2DF3-43DD-891B-815279CE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29DC2-F357-4C1F-9D9C-710A9EC8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C87AA-A99F-41FF-91C0-E3C495B2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07F8A-9C35-46C4-B63F-DC4D9527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0BD33-FFCD-4C4A-8E2C-8FF7FC23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9446A-E373-4B25-869F-B9B2BDF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A6B5B-6F8D-4E39-AA88-66EDE84C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A7C8A-E104-4A79-8AD7-99BB62B7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9AF-C376-418B-9851-5FBC592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BAAEE-5F32-457C-895E-6F24DB3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E9555-8AC1-4A07-B50C-72BF00E7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21B4E-8A7B-494A-81C0-4908C948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5485E-3FA0-42C3-A479-C02F40EC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04616-76EA-4DD0-B2CA-5921366C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3D6F6-2235-49B7-9EF3-BC5F99B5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7F911-90CC-4737-9271-6A444622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EB787-705B-454A-B6FD-CF75E9E9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F4CD2-B7F3-4D40-A120-4FCB8465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95F6C-0322-4B54-A094-528DF746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B49-CD3D-48FF-9A5F-60BFC487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8777A-F847-4586-98B6-AFC73563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C0FD5-D94F-4CCE-9E1C-FF570CBF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008A0-01C2-44DC-B008-88ABEA77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2A084-F818-4D68-B88D-5EB76EFD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57CBF-BFF0-4A67-AE91-53B091B9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C93BD-27D6-4675-AB6F-1B309E36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CC871-9EF9-43AA-852F-E1365687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2F3BF-0C58-4B05-990C-2FCAA7E2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DB5B1-4739-497E-8A22-98AA53CA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6AF7F-8A44-45BC-8D8D-F334CC03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59F5-1E5E-4ECB-B3C9-B425E5C03E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AF72-76DE-4B10-A0F5-1F5A64259541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8F51-E263-4378-B5FC-6FB706D5D7BC}" type="datetime">
              <a:rPr b="0" lang="zh-TW" sz="1000" spc="-1" strike="noStrike">
                <a:solidFill>
                  <a:srgbClr val="ffffff"/>
                </a:solidFill>
                <a:latin typeface="Tahoma"/>
              </a:rPr>
              <a:t>115/0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1792-AB1D-45CA-8A24-211E551F6B1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689B-3324-4DB9-B6D4-D57E02B82F1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6A52-58E3-4FCF-90A7-1FE1C07F7F5E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BBDB-4196-4E6F-A7F3-C451A4B3D97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121E-4141-4548-A890-16D4984F5A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A194-51B1-4C0B-BFCC-90CA091164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7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42D-E3B5-4B79-994E-C222EAB35A34}" type="datetime">
              <a:rPr b="0" lang="zh-TW" sz="1000" spc="-1" strike="noStrike">
                <a:solidFill>
                  <a:srgbClr val="ffffff"/>
                </a:solidFill>
                <a:latin typeface="Tahoma"/>
              </a:rPr>
              <a:t>115/07/28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3A7B-4C38-4E45-8400-91E788CA166B}" type="slidenum">
              <a:rPr b="0" lang="zh-TW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dc3"/>
                </a:solidFill>
                <a:latin typeface="Tw Cen MT"/>
                <a:ea typeface="微軟正黑體"/>
              </a:rPr>
              <a:t>Learner and Teacher Autonomy in language education</a:t>
            </a:r>
            <a:endParaRPr b="0" lang="en-US" sz="4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KWOK Chee Ying Henry 10401474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AM Yan Yin Felix 1040121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AU Tik Sang Dickson 09401482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LEE Chi Leung Edmund 10401237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新細明體"/>
              </a:rPr>
              <a:t>TAM Ming Sum Sammy 09401490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微軟正黑體"/>
              </a:rPr>
              <a:t>Linking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33440" y="174420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1512720" y="2421000"/>
            <a:ext cx="1798920" cy="15127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apacit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di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3457440" y="2421000"/>
            <a:ext cx="1871640" cy="1512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Freedom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rol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hei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3457440" y="3933720"/>
            <a:ext cx="187164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apacity to gr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earn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1512720" y="3933720"/>
            <a:ext cx="180036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ble t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472000" y="2421000"/>
            <a:ext cx="1800360" cy="151272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apacity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di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acher-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5472000" y="3933720"/>
            <a:ext cx="1800360" cy="1440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 be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tonom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1511280" y="1773360"/>
            <a:ext cx="57610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order to 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promote learner autonom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s may need to h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7"/>
          <p:cNvSpPr/>
          <p:nvPr/>
        </p:nvSpPr>
        <p:spPr>
          <a:xfrm flipH="1">
            <a:off x="1727280" y="5373720"/>
            <a:ext cx="4897440" cy="936720"/>
          </a:xfrm>
          <a:custGeom>
            <a:avLst/>
            <a:gdLst>
              <a:gd name="textAreaLeft" fmla="*/ 1007280 w 4897440"/>
              <a:gd name="textAreaRight" fmla="*/ 3387600 w 489744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86" hR="21600" stAng="10800000" swAng="-5400000"/>
                <a:lnTo>
                  <a:pt x="10499" y="21600"/>
                </a:lnTo>
                <a:arcTo wR="8886" hR="21600" stAng="5400000" swAng="-2959596"/>
                <a:lnTo>
                  <a:pt x="21092" y="7199"/>
                </a:lnTo>
                <a:lnTo>
                  <a:pt x="18578" y="0"/>
                </a:lnTo>
                <a:lnTo>
                  <a:pt x="15047" y="7199"/>
                </a:lnTo>
                <a:lnTo>
                  <a:pt x="17263" y="7199"/>
                </a:lnTo>
                <a:arcTo wR="8886" hR="21600" stAng="2440404" swAng="2830766"/>
                <a:lnTo>
                  <a:pt x="9692" y="21511"/>
                </a:lnTo>
                <a:arcTo wR="8886" hR="21600" stAng="5528830" swAng="5271170"/>
                <a:close/>
              </a:path>
              <a:path fill="darkenLess" w="21600" h="21600">
                <a:moveTo>
                  <a:pt x="0" y="0"/>
                </a:moveTo>
                <a:arcTo wR="8886" hR="21600" stAng="10800000" swAng="-5400000"/>
                <a:lnTo>
                  <a:pt x="10499" y="21600"/>
                </a:lnTo>
                <a:arcTo wR="8886" hR="21600" stAng="5400000" swAng="128830"/>
                <a:lnTo>
                  <a:pt x="9692" y="21511"/>
                </a:lnTo>
                <a:arcTo wR="8886" hR="21600" stAng="5528830" swAng="527117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8"/>
          <p:cNvSpPr/>
          <p:nvPr/>
        </p:nvSpPr>
        <p:spPr>
          <a:xfrm>
            <a:off x="71280" y="2060640"/>
            <a:ext cx="1368720" cy="316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Pedag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for f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ut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20"/>
          <p:cNvSpPr/>
          <p:nvPr/>
        </p:nvSpPr>
        <p:spPr>
          <a:xfrm>
            <a:off x="7345440" y="2133720"/>
            <a:ext cx="1439640" cy="316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with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2"/>
          <p:cNvSpPr/>
          <p:nvPr/>
        </p:nvSpPr>
        <p:spPr>
          <a:xfrm rot="17909400">
            <a:off x="3399120" y="4798440"/>
            <a:ext cx="317160" cy="1270080"/>
          </a:xfrm>
          <a:prstGeom prst="upArrow">
            <a:avLst>
              <a:gd name="adj1" fmla="val 50000"/>
              <a:gd name="adj2" fmla="val 1001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3"/>
          <p:cNvSpPr/>
          <p:nvPr/>
        </p:nvSpPr>
        <p:spPr>
          <a:xfrm>
            <a:off x="4176720" y="5157720"/>
            <a:ext cx="392040" cy="432000"/>
          </a:xfrm>
          <a:prstGeom prst="upArrow">
            <a:avLst>
              <a:gd name="adj1" fmla="val 50000"/>
              <a:gd name="adj2" fmla="val 275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4"/>
          <p:cNvSpPr/>
          <p:nvPr/>
        </p:nvSpPr>
        <p:spPr>
          <a:xfrm rot="5400000">
            <a:off x="1316520" y="2545560"/>
            <a:ext cx="392040" cy="431640"/>
          </a:xfrm>
          <a:prstGeom prst="upArrow">
            <a:avLst>
              <a:gd name="adj1" fmla="val 50000"/>
              <a:gd name="adj2" fmla="val 275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5"/>
          <p:cNvSpPr/>
          <p:nvPr/>
        </p:nvSpPr>
        <p:spPr>
          <a:xfrm rot="16200000">
            <a:off x="7149240" y="2511720"/>
            <a:ext cx="392040" cy="432000"/>
          </a:xfrm>
          <a:prstGeom prst="upArrow">
            <a:avLst>
              <a:gd name="adj1" fmla="val 50000"/>
              <a:gd name="adj2" fmla="val 2754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6"/>
          <p:cNvSpPr/>
          <p:nvPr/>
        </p:nvSpPr>
        <p:spPr>
          <a:xfrm>
            <a:off x="2604960" y="633420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acher Education (e.g. PG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7"/>
          <p:cNvSpPr/>
          <p:nvPr/>
        </p:nvSpPr>
        <p:spPr>
          <a:xfrm>
            <a:off x="6121440" y="5373720"/>
            <a:ext cx="2593800" cy="1295280"/>
          </a:xfrm>
          <a:custGeom>
            <a:avLst/>
            <a:gdLst>
              <a:gd name="textAreaLeft" fmla="*/ 0 w 2593800"/>
              <a:gd name="textAreaRight" fmla="*/ 2109600 w 2593800"/>
              <a:gd name="textAreaTop" fmla="*/ 10684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029" y="0"/>
                </a:moveTo>
                <a:lnTo>
                  <a:pt x="10458" y="6512"/>
                </a:lnTo>
                <a:lnTo>
                  <a:pt x="14490" y="6512"/>
                </a:lnTo>
                <a:lnTo>
                  <a:pt x="14490" y="17816"/>
                </a:lnTo>
                <a:lnTo>
                  <a:pt x="0" y="17816"/>
                </a:lnTo>
                <a:lnTo>
                  <a:pt x="0" y="21600"/>
                </a:lnTo>
                <a:lnTo>
                  <a:pt x="17568" y="21600"/>
                </a:lnTo>
                <a:lnTo>
                  <a:pt x="17568" y="6512"/>
                </a:lnTo>
                <a:lnTo>
                  <a:pt x="21600" y="6512"/>
                </a:lnTo>
                <a:lnTo>
                  <a:pt x="16029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 flipH="1">
            <a:off x="71280" y="5373720"/>
            <a:ext cx="2592720" cy="1295280"/>
          </a:xfrm>
          <a:custGeom>
            <a:avLst/>
            <a:gdLst>
              <a:gd name="textAreaLeft" fmla="*/ 0 w 2592720"/>
              <a:gd name="textAreaRight" fmla="*/ 2108880 w 2592720"/>
              <a:gd name="textAreaTop" fmla="*/ 106848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6029" y="0"/>
                </a:moveTo>
                <a:lnTo>
                  <a:pt x="10458" y="6512"/>
                </a:lnTo>
                <a:lnTo>
                  <a:pt x="14490" y="6512"/>
                </a:lnTo>
                <a:lnTo>
                  <a:pt x="14490" y="17816"/>
                </a:lnTo>
                <a:lnTo>
                  <a:pt x="0" y="17816"/>
                </a:lnTo>
                <a:lnTo>
                  <a:pt x="0" y="21600"/>
                </a:lnTo>
                <a:lnTo>
                  <a:pt x="17568" y="21600"/>
                </a:lnTo>
                <a:lnTo>
                  <a:pt x="17568" y="6512"/>
                </a:lnTo>
                <a:lnTo>
                  <a:pt x="21600" y="6512"/>
                </a:lnTo>
                <a:lnTo>
                  <a:pt x="16029" y="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9"/>
          <p:cNvSpPr/>
          <p:nvPr/>
        </p:nvSpPr>
        <p:spPr>
          <a:xfrm>
            <a:off x="3946680" y="5386320"/>
            <a:ext cx="865080" cy="863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x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ri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2"/>
          <p:cNvSpPr/>
          <p:nvPr/>
        </p:nvSpPr>
        <p:spPr>
          <a:xfrm>
            <a:off x="7145280" y="14842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SYCHOLO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3"/>
          <p:cNvSpPr/>
          <p:nvPr/>
        </p:nvSpPr>
        <p:spPr>
          <a:xfrm>
            <a:off x="2160" y="148428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4"/>
          <p:cNvSpPr/>
          <p:nvPr/>
        </p:nvSpPr>
        <p:spPr>
          <a:xfrm>
            <a:off x="4731480" y="53737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17"/>
          <p:cNvGrpSpPr/>
          <p:nvPr/>
        </p:nvGrpSpPr>
        <p:grpSpPr>
          <a:xfrm>
            <a:off x="252360" y="4148280"/>
            <a:ext cx="5040000" cy="2592000"/>
            <a:chOff x="252360" y="4148280"/>
            <a:chExt cx="5040000" cy="2592000"/>
          </a:xfrm>
        </p:grpSpPr>
        <p:sp>
          <p:nvSpPr>
            <p:cNvPr id="488" name="Rectangle 4"/>
            <p:cNvSpPr/>
            <p:nvPr/>
          </p:nvSpPr>
          <p:spPr>
            <a:xfrm>
              <a:off x="408600" y="4148280"/>
              <a:ext cx="4627080" cy="4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75f55"/>
                  </a:solidFill>
                  <a:latin typeface="Calibri"/>
                </a:rPr>
                <a:t>Constrai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5"/>
            <p:cNvSpPr/>
            <p:nvPr/>
          </p:nvSpPr>
          <p:spPr>
            <a:xfrm>
              <a:off x="779040" y="439920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6"/>
            <p:cNvSpPr/>
            <p:nvPr/>
          </p:nvSpPr>
          <p:spPr>
            <a:xfrm>
              <a:off x="4098600" y="505620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tudent diver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7"/>
            <p:cNvSpPr/>
            <p:nvPr/>
          </p:nvSpPr>
          <p:spPr>
            <a:xfrm>
              <a:off x="252360" y="571284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Lack of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8"/>
            <p:cNvSpPr/>
            <p:nvPr/>
          </p:nvSpPr>
          <p:spPr>
            <a:xfrm>
              <a:off x="373680" y="497052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ami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9"/>
            <p:cNvSpPr/>
            <p:nvPr/>
          </p:nvSpPr>
          <p:spPr>
            <a:xfrm>
              <a:off x="3045960" y="457092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lass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Discip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0"/>
            <p:cNvSpPr/>
            <p:nvPr/>
          </p:nvSpPr>
          <p:spPr>
            <a:xfrm>
              <a:off x="1062000" y="542700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Worklo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1"/>
            <p:cNvSpPr/>
            <p:nvPr/>
          </p:nvSpPr>
          <p:spPr>
            <a:xfrm>
              <a:off x="3167280" y="599832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12"/>
            <p:cNvSpPr/>
            <p:nvPr/>
          </p:nvSpPr>
          <p:spPr>
            <a:xfrm>
              <a:off x="1507320" y="482796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13"/>
            <p:cNvSpPr/>
            <p:nvPr/>
          </p:nvSpPr>
          <p:spPr>
            <a:xfrm>
              <a:off x="1832400" y="6026760"/>
              <a:ext cx="109224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chool Poli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14"/>
            <p:cNvSpPr/>
            <p:nvPr/>
          </p:nvSpPr>
          <p:spPr>
            <a:xfrm>
              <a:off x="2316960" y="5198760"/>
              <a:ext cx="1620000" cy="114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Orien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ul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15"/>
            <p:cNvSpPr/>
            <p:nvPr/>
          </p:nvSpPr>
          <p:spPr>
            <a:xfrm>
              <a:off x="3875040" y="5569920"/>
              <a:ext cx="1417320" cy="959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Scheme of 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6"/>
            <p:cNvSpPr/>
            <p:nvPr/>
          </p:nvSpPr>
          <p:spPr>
            <a:xfrm>
              <a:off x="3976920" y="4456440"/>
              <a:ext cx="1092600" cy="71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lass siz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Oval 18"/>
          <p:cNvSpPr/>
          <p:nvPr/>
        </p:nvSpPr>
        <p:spPr>
          <a:xfrm>
            <a:off x="179280" y="1628640"/>
            <a:ext cx="6120000" cy="215928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eacher Autonom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2"/>
          <p:cNvSpPr/>
          <p:nvPr/>
        </p:nvSpPr>
        <p:spPr>
          <a:xfrm>
            <a:off x="2556000" y="3427560"/>
            <a:ext cx="215640" cy="792000"/>
          </a:xfrm>
          <a:prstGeom prst="downArrow">
            <a:avLst>
              <a:gd name="adj1" fmla="val 50000"/>
              <a:gd name="adj2" fmla="val 918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23"/>
          <p:cNvSpPr/>
          <p:nvPr/>
        </p:nvSpPr>
        <p:spPr>
          <a:xfrm>
            <a:off x="4284720" y="3427560"/>
            <a:ext cx="4753080" cy="1223640"/>
          </a:xfrm>
          <a:prstGeom prst="ellipse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earner Aut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5"/>
          <p:cNvSpPr/>
          <p:nvPr/>
        </p:nvSpPr>
        <p:spPr>
          <a:xfrm rot="3006600">
            <a:off x="4680360" y="3175920"/>
            <a:ext cx="936720" cy="576000"/>
          </a:xfrm>
          <a:prstGeom prst="leftRightArrow">
            <a:avLst>
              <a:gd name="adj1" fmla="val 50000"/>
              <a:gd name="adj2" fmla="val 3237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26"/>
          <p:cNvSpPr/>
          <p:nvPr/>
        </p:nvSpPr>
        <p:spPr>
          <a:xfrm>
            <a:off x="5724360" y="5011560"/>
            <a:ext cx="309744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Bette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alibri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8"/>
          <p:cNvSpPr/>
          <p:nvPr/>
        </p:nvSpPr>
        <p:spPr>
          <a:xfrm>
            <a:off x="6156360" y="4579920"/>
            <a:ext cx="936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1"/>
          <p:cNvSpPr/>
          <p:nvPr/>
        </p:nvSpPr>
        <p:spPr>
          <a:xfrm>
            <a:off x="6951240" y="4579920"/>
            <a:ext cx="15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ti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6014160" y="29955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ife-long Le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33"/>
          <p:cNvSpPr/>
          <p:nvPr/>
        </p:nvSpPr>
        <p:spPr>
          <a:xfrm>
            <a:off x="5919120" y="181944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reating Sp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4"/>
          <p:cNvSpPr/>
          <p:nvPr/>
        </p:nvSpPr>
        <p:spPr>
          <a:xfrm>
            <a:off x="1045800" y="291780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Attitudes, Skills, and Knowledge (A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35"/>
          <p:cNvSpPr/>
          <p:nvPr/>
        </p:nvSpPr>
        <p:spPr>
          <a:xfrm>
            <a:off x="3502440" y="19875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TECHN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6"/>
          <p:cNvSpPr/>
          <p:nvPr/>
        </p:nvSpPr>
        <p:spPr>
          <a:xfrm>
            <a:off x="1188720" y="19810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SYCHOLO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7"/>
          <p:cNvSpPr/>
          <p:nvPr/>
        </p:nvSpPr>
        <p:spPr>
          <a:xfrm>
            <a:off x="1023120" y="3787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OLI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8"/>
          <p:cNvSpPr/>
          <p:nvPr/>
        </p:nvSpPr>
        <p:spPr>
          <a:xfrm flipV="1">
            <a:off x="2771640" y="3425760"/>
            <a:ext cx="2016360" cy="938160"/>
          </a:xfrm>
          <a:custGeom>
            <a:avLst/>
            <a:gdLst>
              <a:gd name="textAreaLeft" fmla="*/ 1159920 w 2016360"/>
              <a:gd name="textAreaRight" fmla="*/ 1724400 w 2016360"/>
              <a:gd name="textAreaTop" fmla="*/ 153720 h 938160"/>
              <a:gd name="textAreaBottom" fmla="*/ 374040 h 938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095" y="0"/>
                </a:lnTo>
                <a:lnTo>
                  <a:pt x="14095" y="3545"/>
                </a:lnTo>
                <a:lnTo>
                  <a:pt x="12427" y="3545"/>
                </a:lnTo>
                <a:cubicBezTo>
                  <a:pt x="5564" y="3545"/>
                  <a:pt x="0" y="7401"/>
                  <a:pt x="0" y="12158"/>
                </a:cubicBezTo>
                <a:lnTo>
                  <a:pt x="0" y="21600"/>
                </a:lnTo>
                <a:lnTo>
                  <a:pt x="5180" y="21600"/>
                </a:lnTo>
                <a:lnTo>
                  <a:pt x="5180" y="12158"/>
                </a:lnTo>
                <a:cubicBezTo>
                  <a:pt x="5180" y="10200"/>
                  <a:pt x="8425" y="8613"/>
                  <a:pt x="12427" y="8613"/>
                </a:cubicBezTo>
                <a:lnTo>
                  <a:pt x="14095" y="8613"/>
                </a:lnTo>
                <a:lnTo>
                  <a:pt x="14095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微軟正黑體"/>
              </a:rPr>
              <a:t>Linking togeth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Language Teaching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Autonomy in ELT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vs. Metho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95280" y="1700280"/>
          <a:ext cx="8586720" cy="4525920"/>
        </p:xfrm>
        <a:graphic>
          <a:graphicData uri="http://schemas.openxmlformats.org/drawingml/2006/table">
            <a:tbl>
              <a:tblPr/>
              <a:tblGrid>
                <a:gridCol w="1224000"/>
                <a:gridCol w="1638360"/>
                <a:gridCol w="1431720"/>
                <a:gridCol w="1430280"/>
                <a:gridCol w="1432080"/>
                <a:gridCol w="143028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am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ansl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 Metho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o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ng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B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on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0" name="Picture 90" descr="MC900326908[1]"/>
          <p:cNvPicPr/>
          <p:nvPr/>
        </p:nvPicPr>
        <p:blipFill>
          <a:blip r:embed="rId1"/>
          <a:stretch/>
        </p:blipFill>
        <p:spPr>
          <a:xfrm>
            <a:off x="1692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91" descr="MC900326908[1]"/>
          <p:cNvPicPr/>
          <p:nvPr/>
        </p:nvPicPr>
        <p:blipFill>
          <a:blip r:embed="rId2"/>
          <a:stretch/>
        </p:blipFill>
        <p:spPr>
          <a:xfrm>
            <a:off x="7596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92" descr="MC900326908[1]"/>
          <p:cNvPicPr/>
          <p:nvPr/>
        </p:nvPicPr>
        <p:blipFill>
          <a:blip r:embed="rId3"/>
          <a:stretch/>
        </p:blipFill>
        <p:spPr>
          <a:xfrm>
            <a:off x="615636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3" descr="MC900326908[1]"/>
          <p:cNvPicPr/>
          <p:nvPr/>
        </p:nvPicPr>
        <p:blipFill>
          <a:blip r:embed="rId4"/>
          <a:stretch/>
        </p:blipFill>
        <p:spPr>
          <a:xfrm>
            <a:off x="4716360" y="34290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4" descr="MC900326908[1]"/>
          <p:cNvPicPr/>
          <p:nvPr/>
        </p:nvPicPr>
        <p:blipFill>
          <a:blip r:embed="rId5"/>
          <a:stretch/>
        </p:blipFill>
        <p:spPr>
          <a:xfrm>
            <a:off x="3276720" y="3429000"/>
            <a:ext cx="912600" cy="9129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5" descr="MM900336396[1]"/>
          <p:cNvPicPr/>
          <p:nvPr/>
        </p:nvPicPr>
        <p:blipFill>
          <a:blip r:embed="rId6"/>
          <a:stretch/>
        </p:blipFill>
        <p:spPr>
          <a:xfrm>
            <a:off x="183528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6" descr="MM900336396[1]"/>
          <p:cNvPicPr/>
          <p:nvPr/>
        </p:nvPicPr>
        <p:blipFill>
          <a:blip r:embed="rId7"/>
          <a:stretch/>
        </p:blipFill>
        <p:spPr>
          <a:xfrm>
            <a:off x="77407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7" descr="MM900336396[1]"/>
          <p:cNvPicPr/>
          <p:nvPr/>
        </p:nvPicPr>
        <p:blipFill>
          <a:blip r:embed="rId8"/>
          <a:stretch/>
        </p:blipFill>
        <p:spPr>
          <a:xfrm>
            <a:off x="6300720" y="508464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8" descr="MM900336396[1]"/>
          <p:cNvPicPr/>
          <p:nvPr/>
        </p:nvPicPr>
        <p:blipFill>
          <a:blip r:embed="rId9"/>
          <a:stretch/>
        </p:blipFill>
        <p:spPr>
          <a:xfrm>
            <a:off x="493236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9" descr="MM900336396[1]"/>
          <p:cNvPicPr/>
          <p:nvPr/>
        </p:nvPicPr>
        <p:blipFill>
          <a:blip r:embed="rId10"/>
          <a:stretch/>
        </p:blipFill>
        <p:spPr>
          <a:xfrm>
            <a:off x="3492360" y="5157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Grammar translation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ssigned teaching materi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Direct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ind examples from every day vocabulary and senten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udio-lingual method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ollow model dialogue and teach through repetition &amp; drill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Communicative Language Teach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It is unified but broadly based, theoretically well informed set of tenets about the nature of language learning and teaching.” (Brown H.D.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sign learning activities and tasks involving real-life communic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tonomy in Language Teach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ask based lear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kehan’s (1998) concept of TB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Meaning is prim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ommunication problem to solv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Relationship to comparable real-world activ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ask comple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Assessment of the task in terms of outcom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elect authentic materi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ummary (Autonomy vs. Method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395280" y="1628640"/>
          <a:ext cx="8586720" cy="4525920"/>
        </p:xfrm>
        <a:graphic>
          <a:graphicData uri="http://schemas.openxmlformats.org/drawingml/2006/table">
            <a:tbl>
              <a:tblPr/>
              <a:tblGrid>
                <a:gridCol w="1224000"/>
                <a:gridCol w="1638360"/>
                <a:gridCol w="1431720"/>
                <a:gridCol w="1430280"/>
                <a:gridCol w="1432080"/>
                <a:gridCol w="14302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ramma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ansl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rect Metho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o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ng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B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teri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igned &amp; prepared in adv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xamples from every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petition &amp; dril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sign learning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hen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tono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8" name="Picture 35" descr="MC900434713[1]"/>
          <p:cNvPicPr/>
          <p:nvPr/>
        </p:nvPicPr>
        <p:blipFill>
          <a:blip r:embed="rId1"/>
          <a:stretch/>
        </p:blipFill>
        <p:spPr>
          <a:xfrm>
            <a:off x="6156360" y="4869000"/>
            <a:ext cx="922320" cy="966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6" descr="MC900434713[1]"/>
          <p:cNvPicPr/>
          <p:nvPr/>
        </p:nvPicPr>
        <p:blipFill>
          <a:blip r:embed="rId2"/>
          <a:stretch/>
        </p:blipFill>
        <p:spPr>
          <a:xfrm>
            <a:off x="7524720" y="4869000"/>
            <a:ext cx="922320" cy="9666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7" descr="MC900434713[1]"/>
          <p:cNvPicPr/>
          <p:nvPr/>
        </p:nvPicPr>
        <p:blipFill>
          <a:blip r:embed="rId3"/>
          <a:stretch/>
        </p:blipFill>
        <p:spPr>
          <a:xfrm>
            <a:off x="3132000" y="4724280"/>
            <a:ext cx="646200" cy="677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8" descr="MC900432537[1]"/>
          <p:cNvPicPr/>
          <p:nvPr/>
        </p:nvPicPr>
        <p:blipFill>
          <a:blip r:embed="rId4"/>
          <a:stretch/>
        </p:blipFill>
        <p:spPr>
          <a:xfrm>
            <a:off x="3708360" y="537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9" descr="MC900432537[1]"/>
          <p:cNvPicPr/>
          <p:nvPr/>
        </p:nvPicPr>
        <p:blipFill>
          <a:blip r:embed="rId5"/>
          <a:stretch/>
        </p:blipFill>
        <p:spPr>
          <a:xfrm>
            <a:off x="1692360" y="4869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0" descr="MC900432537[1]"/>
          <p:cNvPicPr/>
          <p:nvPr/>
        </p:nvPicPr>
        <p:blipFill>
          <a:blip r:embed="rId6"/>
          <a:stretch/>
        </p:blipFill>
        <p:spPr>
          <a:xfrm>
            <a:off x="4643280" y="4870440"/>
            <a:ext cx="100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Sharing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Hen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fter school enhancement classes (S3 &amp; S6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rilling on TSA/ HKCEE / HKALE / HKDSE past pap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新細明體"/>
              </a:rPr>
              <a:t>No autonom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fter school enhancement classes (S1, S2, S4, S5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Less Drilling on past pap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lexible group activities &amp; gam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What is your goa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as an English Teacher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Australian Primary School NE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yllabus and teaching materials from EDB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(Primary Literacy Reading Program – PLP-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(Primary Literacy Reading/Writing Program – PLP-R/W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utonomy in group activities &amp; games with P1 &amp; P2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ouch the 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ailor-made chess boa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aseball score car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CVC (Consonants Vowels Consonants ) word ga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inging the “left &amp; right” songs, letter songs, etc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Felix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Time lim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yllabus, lesson time, assessments,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elief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f you believe, you wil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ncourage refl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What” to express before “how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Ne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ultural: teacher’s responsibility (</a:t>
            </a:r>
            <a:r>
              <a:rPr b="0" lang="fi-FI" sz="2000" spc="-1" strike="noStrike">
                <a:solidFill>
                  <a:srgbClr val="000000"/>
                </a:solidFill>
                <a:latin typeface="Tw Cen MT"/>
              </a:rPr>
              <a:t>Sakai, Takagi and Chu 2010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Dicks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483920"/>
            <a:ext cx="8531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cheme of work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Form coordinators deliver the scheme of work to form teachers.  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Have to finish teaching the units and specific items within the assigned period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sign worksheets, hangouts and any other teaching materials other than the textbooks in order to fit the needs of their own class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lways encourage and reinforce students that they are capable and smart enough to learn mo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ssign more challenging tasks and teach more advanced level it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Dicks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believe they are capable so they are willing to accept extra task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develop a habit that reading Young Post and write down new vocabulary items on their ‘Learning Log’ every da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submit news summary and reflections which are not assigned by the teacher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apply those new items in their writing and speaking task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Edm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Creating spaces out of constrai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 Junior High if possib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Try to pick the essentials to teach from the Scheme of Wo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pare as much free time to discuss the weekly new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Learner autonomy – true believer of self-directed lear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新細明體"/>
              </a:rPr>
              <a:t>Weekly reading and writing as a habi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Reading (Authentic Materials – One news article weekly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Writing (News report - encourage students’ reflectio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sist on marking with feedbacks on their weekly writing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am-oriented culture as the external driv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ackground of the schoo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Band 3 secondary schoo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connection between the local school and the American Lutheran Church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partment of International Interfa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merican volunteers visit the campus by promoting Christianity and English learning through playing games, singing songs, visiting local families, participating in the lessons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acher autonomy promotes learner autonomy through: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upport by the Princip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articipating several activities with the volunteers from the US (sightseeing, dining, worshipping, etc.)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munication &gt; learning English for exa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acher Autonom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traint (Senior secondary schoo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ociety: Expect HKDSE takers have certain proficiency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arents: Expect the school has more drilling and practi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urriculum: Senior form ( preparing for the HKDSE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me constraint : Remedial classes for different subjec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easibl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Junior for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Language art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ppreciation and enjoyment of the langu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merican studies lesson (culture, living style, activitie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86680" indent="-2214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acebook connection with the US volunte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Sam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 everyone in the school has the opportunity to participate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ble to create the space to enhance both teacher and student autonomy in junior level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hancing the autonomy in their early age would strength the possibility of the development of whole-life learn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Autonomy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Creating spac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</a:rPr>
              <a:t>Discu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2340000" y="2997360"/>
            <a:ext cx="680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How can you create more spaces for yourself?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ddc3"/>
                </a:solidFill>
                <a:latin typeface="Tw Cen MT"/>
                <a:ea typeface="微軟正黑體"/>
              </a:rPr>
              <a:t>Reference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  <a:ea typeface="新細明體"/>
              </a:rPr>
              <a:t>Reference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12720" y="1557360"/>
            <a:ext cx="8531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enson (2010). Teacher education and teacher autonomy: Creating spaces for experimentation in secondary school English Language teaching. Language Teaching Research, 14(3), 259-275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enson &amp; Huang (2008). Autonomy in the transition from foreign language learning to foreign language teaching. DELTA: Revista de Documentacao de Estudos em Linguistica Teorica e Aplicada, 421-439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rown, H. D. (2001). Teaching by principles: An interactive approach to language pedagogy (2nd Edition). New York: Addison Wesley Longma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w Cen MT"/>
              </a:rPr>
              <a:t>Sakai, S., Takagi, A., Chu, M.P. (2010)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omoting Learner Autonomy: Student Perceptions of Responsibilities in a Language Classroom in East Asia. </a:t>
            </a:r>
            <a:r>
              <a:rPr b="0" lang="pt-BR" sz="2000" spc="-1" strike="noStrike">
                <a:solidFill>
                  <a:srgbClr val="000000"/>
                </a:solidFill>
                <a:latin typeface="Tw Cen MT"/>
              </a:rPr>
              <a:t>Educational Perspectives v4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kehan, P. (1998). A cognitive approach to language learning. Oxford: Oxford University Pres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Smith R.C. (2003). Teacher education for teacher-learner autonomy. Centre for English Language Teacher Education (CELTE). University of Warwick. UK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Tahoma"/>
              </a:rPr>
              <a:t>~~~Thank you~~~</a:t>
            </a:r>
            <a:endParaRPr b="0" lang="en-US" sz="7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Constrai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Oval 5"/>
          <p:cNvSpPr/>
          <p:nvPr/>
        </p:nvSpPr>
        <p:spPr>
          <a:xfrm>
            <a:off x="1116000" y="90792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7"/>
          <p:cNvSpPr/>
          <p:nvPr/>
        </p:nvSpPr>
        <p:spPr>
          <a:xfrm>
            <a:off x="7020000" y="2565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udent 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8"/>
          <p:cNvSpPr/>
          <p:nvPr/>
        </p:nvSpPr>
        <p:spPr>
          <a:xfrm>
            <a:off x="179280" y="422100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ck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9"/>
          <p:cNvSpPr/>
          <p:nvPr/>
        </p:nvSpPr>
        <p:spPr>
          <a:xfrm>
            <a:off x="395280" y="234936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5148360" y="1341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11"/>
          <p:cNvSpPr/>
          <p:nvPr/>
        </p:nvSpPr>
        <p:spPr>
          <a:xfrm>
            <a:off x="1619280" y="350028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2"/>
          <p:cNvSpPr/>
          <p:nvPr/>
        </p:nvSpPr>
        <p:spPr>
          <a:xfrm>
            <a:off x="5364000" y="494172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3"/>
          <p:cNvSpPr/>
          <p:nvPr/>
        </p:nvSpPr>
        <p:spPr>
          <a:xfrm>
            <a:off x="2411280" y="1989000"/>
            <a:ext cx="194328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4"/>
          <p:cNvSpPr/>
          <p:nvPr/>
        </p:nvSpPr>
        <p:spPr>
          <a:xfrm>
            <a:off x="2989440" y="5013360"/>
            <a:ext cx="1942920" cy="18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hool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15"/>
          <p:cNvSpPr/>
          <p:nvPr/>
        </p:nvSpPr>
        <p:spPr>
          <a:xfrm>
            <a:off x="3851280" y="2924280"/>
            <a:ext cx="2881440" cy="2881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ien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6"/>
          <p:cNvSpPr/>
          <p:nvPr/>
        </p:nvSpPr>
        <p:spPr>
          <a:xfrm>
            <a:off x="6622920" y="3860640"/>
            <a:ext cx="2521080" cy="2421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heme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17"/>
          <p:cNvSpPr/>
          <p:nvPr/>
        </p:nvSpPr>
        <p:spPr>
          <a:xfrm>
            <a:off x="6804000" y="1052640"/>
            <a:ext cx="1943280" cy="180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611280" y="1557360"/>
            <a:ext cx="5257800" cy="1584360"/>
          </a:xfrm>
          <a:prstGeom prst="cloudCallout">
            <a:avLst>
              <a:gd name="adj1" fmla="val -16092"/>
              <a:gd name="adj2" fmla="val 74250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nson (2000) ‘right to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free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o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3924360" y="2997360"/>
            <a:ext cx="5041800" cy="1728720"/>
          </a:xfrm>
          <a:prstGeom prst="cloudCallout">
            <a:avLst>
              <a:gd name="adj1" fmla="val -25032"/>
              <a:gd name="adj2" fmla="val 67449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(1995) ‘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engag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lf-directed teach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8"/>
          <p:cNvSpPr/>
          <p:nvPr/>
        </p:nvSpPr>
        <p:spPr>
          <a:xfrm>
            <a:off x="1042920" y="5229360"/>
            <a:ext cx="5184720" cy="1368360"/>
          </a:xfrm>
          <a:prstGeom prst="cloudCallout">
            <a:avLst>
              <a:gd name="adj1" fmla="val 10041"/>
              <a:gd name="adj2" fmla="val -81787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ith (2000) ‘teachers’ autonomy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earn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Aoki (2000)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autonomous teacher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he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freedom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responsibility to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make choice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concern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one’s own teaching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Learner Autonom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Would it be great if students can learn by themselves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Misconception: ‘learning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without a teacher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Little (1991)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capacit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for tak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of learning’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 Dimen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12720" y="1557360"/>
            <a:ext cx="85312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Classroom-based approach to the development of learner autonomy (Sinclair 2000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Prominence of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learner autonomy as a go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Promoting learner autonom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ructuring and scaffolding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reflective lear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Learning ‘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  <a:ea typeface="新細明體"/>
              </a:rPr>
              <a:t>pedagogy for autonomy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’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‘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are to learn to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take contro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teacher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may need to </a:t>
            </a:r>
            <a:r>
              <a:rPr b="0" lang="en-US" sz="2800" spc="-1" strike="noStrike">
                <a:solidFill>
                  <a:srgbClr val="0000ff"/>
                </a:solidFill>
                <a:latin typeface="Tw Cen MT"/>
                <a:ea typeface="新細明體"/>
              </a:rPr>
              <a:t>let go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68360" y="5805360"/>
            <a:ext cx="8675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alibri"/>
                <a:ea typeface="新細明體"/>
              </a:rPr>
              <a:t>Reflection: When to let go, when to contr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8531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新細明體"/>
              </a:rPr>
              <a:t>Teacher Autonomy Dimens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612720" y="1600200"/>
          <a:ext cx="8423280" cy="5141880"/>
        </p:xfrm>
        <a:graphic>
          <a:graphicData uri="http://schemas.openxmlformats.org/drawingml/2006/table">
            <a:tbl>
              <a:tblPr/>
              <a:tblGrid>
                <a:gridCol w="2808360"/>
                <a:gridCol w="2806560"/>
                <a:gridCol w="2808360"/>
              </a:tblGrid>
              <a:tr h="56340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PSYCHOLO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TECHN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alibri"/>
                        </a:rPr>
                        <a:t>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776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trong sense of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ersonal responsibility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continuous reflection and analys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pedagogical skill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n be ac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unifor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aff development programs &amp;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classroom observ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720"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 for self-directed professional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ty for self-directed professional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720" rIns="90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reedom from control by other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 professional action or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720" marR="90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3:06:20Z</dcterms:created>
  <dc:creator>Henry Kwok</dc:creator>
  <dc:description/>
  <dc:language>en-US</dc:language>
  <cp:lastModifiedBy>Jan Connelly</cp:lastModifiedBy>
  <dcterms:modified xsi:type="dcterms:W3CDTF">2012-03-01T09:10:13Z</dcterms:modified>
  <cp:revision>47</cp:revision>
  <dc:subject/>
  <dc:title>Slide 1</dc:title>
</cp:coreProperties>
</file>